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59102"/>
        <c:axId val="82275291"/>
      </c:barChart>
      <c:catAx>
        <c:axId val="19159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5291"/>
        <c:crosses val="autoZero"/>
        <c:auto val="1"/>
        <c:lblAlgn val="ctr"/>
        <c:lblOffset val="100"/>
        <c:noMultiLvlLbl val="0"/>
      </c:catAx>
      <c:valAx>
        <c:axId val="82275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9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0BD-98FC-4C52-9DFA-3E5832EC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280-3017-4C0A-83A8-7CF3FD5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879-E642-4817-B9CB-639EA65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1E6-D81B-445B-B351-31963914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9E1-B78D-47D0-BE18-4B4A4AD3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22D-DD76-4730-B16E-F6542C2D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F7D-7DE8-415E-9D6C-EABFA141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F29-CD49-4D5F-AD1E-FDE70ED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228-5825-4F63-8580-8015C90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D85-A3D5-4292-A824-7D7533A0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EB0-E419-47C6-9028-972D2A5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7C0-A73F-4084-B168-4D29B22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CDFC5-E06F-4A83-A8A8-E9BE65B16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